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A04-2852-4C4F-AB9F-6B16AFD1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B4E-AC75-45C2-A3C0-96C3B91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FE4-8508-4960-9DC2-C4922D6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2F1-BA36-4E28-8511-3F7B8CCE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C90-6DE6-4256-937D-EA23F80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7FD-2FD8-4AF0-9292-8442920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36A-F033-4E96-9EC0-22BC3BD4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E6B-88DE-499C-9C07-AD26CB7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C73-16B8-4E34-A568-6A45DAB8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683-2D28-41A2-8B42-1B4BBA8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6B-BDD0-4DD9-B321-D8A93FD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EF2-2400-4E7A-9277-E0FD6FF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0E30-1581-4D8C-ADC4-02ECBA08B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3240"/>
            <a:ext cx="483408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لحمدُ والشكرا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مجدُ والسلطان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القُدرة لإلهنا لا لا  لا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لهُ الحكمة والقُوَّة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عزُّ والاجلال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إلى أبدِ الآبدي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  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حمدُ والشكر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مجدُ والسلط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قدرة لإلهن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             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مُستَحِقٌ أن يَنَال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كُلَّ حُبٍّ وإكرام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جالِسْ عَلى عَرْشِ السَماو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ت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935640" y="3240"/>
            <a:ext cx="55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طوبى للذي يحفظْ وصايَا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عتصِمُ في ظِلِّ جَنَاحي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يُثمِرُ بالبِرِّ والقَدَاسة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فْرحْ في ملكوتِكَ  لا  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42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بى للذيِنَ يتَّقون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َبْرَحونَ يسبِّحون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لا يجوعونَ لا يعطشون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ْ نبعِ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حياةِ يرتوون  لا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3400" y="4816440"/>
            <a:ext cx="57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ى للَّذي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تَواْ مِنَ الضيق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لوِّحو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غصانَ النخيلِ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ِدَمِ الحَمَلِ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َسَلُوا حُلَلَهُ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يَحُلُّ فوقهُم  لا  لا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3:43Z</dcterms:modified>
  <cp:revision>5</cp:revision>
  <dc:subject/>
  <dc:title>PowerPoint Presentation</dc:title>
</cp:coreProperties>
</file>